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890280" y="733320"/>
            <a:ext cx="488772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0786-4192-4432-BDEF-987847CB2C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C2D8-515A-4061-BB1F-3BB4F74A397A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73D2-834B-4DA9-A360-41B542459A06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ABDDF-110D-4A4E-8E1B-91D9ACE5EF8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C836B-DDD0-45A5-96D5-828C63DFF7E2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2797-A2F7-4A48-93B9-5328F71C928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BF1E-341C-4A5B-9B24-22EC5375081C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544A0-BAE6-4DD6-82DD-17DB5241D59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50915-1244-456E-805D-B369B9B879D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671D2-DD12-4266-A698-62D4F699CE1D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6C7E-10E3-4BA6-BE0C-6E5CABC9B785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4089-964F-4396-AD88-2DF511296E58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9045-41F9-498F-BF22-FEC20179C5C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0910F-531C-4381-AE04-F379C6BCD037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B29-6602-45AF-A65B-C0AB368411BB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9F59C-049C-423B-A7D3-3EE436347621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7720" cy="36655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358E-3936-42C3-AEDE-27D0BAAD2D49}" type="slidenum">
              <a:rPr b="0" lang="en-GB" sz="1200" spc="-1" strike="noStrike">
                <a:solidFill>
                  <a:srgbClr val="005ca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0427-B809-4146-A44B-BFD8BAF5B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59F-7A99-4AB7-B294-9D62DA0F6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FD4B-9D7D-40E1-8188-95CD370A4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DD90-D0BD-4166-A7DB-DB6A5D122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2C0F-E1A5-46BF-AC6D-9429E9674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98DB-E988-4C75-8C96-B721064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E06E-009F-48BD-B174-E96343763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E0D8D-292D-4379-B6F1-CAB56051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2BA4-F1CB-46C0-8E3D-BACF6DE6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0272-2636-4AD5-9431-85B6023D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A7D7D-B8A0-49D5-BF03-8A431AB0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D363-4621-4CD1-9FA0-3634D941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F362-5D0B-4F6C-B5F7-E0A20675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DF1B5-E4AD-4071-9AA8-902650F2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609AB-4F95-47BB-98EC-539F6F5DE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B717-00A2-4F91-B4FC-9DB8DD1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5E32-836A-4892-8682-03E31A40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094-EA29-4147-AED8-A67238C62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1C71-02D5-4B10-B137-A31FF181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C83B-49E4-464C-BE68-FDAE4B3C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FC15-F163-4DE3-ABFB-A0056C3A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A067-CBAC-429C-A343-EF623712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3DCD-4AC0-4F54-9B37-97B0FCF3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7D77-EE36-4ACA-BE02-89CEEE99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A5E9-60FC-45B2-841C-B0977DCDCA3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8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Line 9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Picture 11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6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5" name="Line 7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6" name="Picture 8" descr="EBF FINAL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2A78-5AE2-4F3D-B2D9-DEE6BACEB81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4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cc"/>
                </a:solidFill>
                <a:latin typeface="Times New Roman"/>
              </a:rPr>
              <a:t>Future Supervisory Architecture of the EU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uido RAVOET 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BF Secretary Genera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28</a:t>
            </a:r>
            <a:r>
              <a:rPr b="0" lang="en-GB" sz="25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EBF Associates’ Meeting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2BAA5-301F-4333-B8B0-7123BD934A7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single rulebook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through binding technical standards and interpretative guideline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consistent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pplication of the rule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by supervisors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nsur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mmon supervisory cultur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and consistent supervisory practic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llect relevan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icro-prudenti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inform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from national superviso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73FDF-EB88-4FB3-967F-04219CAFDBD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Composition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mposition of the new ESA follows that of the current Lamfalussy Level 3 Committee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iat,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Secretary General and Chair, and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Board where the Commission, the ESRC and the EFTA-EEA countries would be represented.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he resources will need to be substantially increased as compared to the current resources of the Level 3 Committees for the new Authorities to fulfil their rol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C84-AA3A-446D-B55D-6B3BD2BBF832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: Functioning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Regular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eting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Binding technical standards made with qualified majority voting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76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66cc"/>
                </a:solidFill>
                <a:latin typeface="Times New Roman"/>
              </a:rPr>
              <a:t>Interpretative decisions: simple majority procedure;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Budget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Authorities have their own budget, which is funded by the national authorities and/or industry. Financial and human resources need to be proportionate to the responsibilities of the Authorities and ensure independenc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, Commission and European Parliament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A31B-8872-4154-9C13-3481FD4D9CA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 of Financial Supervisors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5cad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CB78-3627-40D6-8069-6F4048D9592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operation between ESRC and ESFS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 and information shar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between the macro and micro pillars would be bind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egular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uropean Authorities would provide the ESRC with the relevant anonymous data on all financial institutions and market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On an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d hoc basi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the ESRC would launch surveys on specific issues, channelled through the European Supervisory Authorities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For macro-prudential information to feed into the micro-prudential supervisory considerations, representatives of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SRC might participate in colleges of supervisors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0B2D-70F9-435D-9535-FDCBC01FA6E0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ummary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Commission proposed creating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, the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 and a way for the two to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e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The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EBF broadly supports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 most of the proposal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Some important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details still need to be clarified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Legislative proposals are expected in </a:t>
            </a:r>
            <a:r>
              <a:rPr b="1" lang="en-GB" sz="2100" spc="-1" strike="noStrike">
                <a:solidFill>
                  <a:srgbClr val="005cad"/>
                </a:solidFill>
                <a:latin typeface="Times New Roman"/>
              </a:rPr>
              <a:t>autumn 2009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71D8-0168-4A93-8CE5-2F1ABED9A6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5cad"/>
                </a:solidFill>
                <a:latin typeface="Times New Roman"/>
              </a:rPr>
              <a:t>Thank You For Your Attention</a:t>
            </a: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!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3C06-F0E5-40F7-B707-3B97767A76C3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31640" y="259920"/>
            <a:ext cx="53276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Outline of Presenta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Background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ic Risk Council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uropean System Of Financial Superviso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5cad"/>
                </a:solidFill>
                <a:latin typeface="Times New Roman"/>
              </a:rPr>
              <a:t>Role, Composition, Functioning.</a:t>
            </a:r>
            <a:endParaRPr b="0" lang="en-US" sz="19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ESRC-ESFS Cooper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Functioning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5ca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5cad"/>
                </a:solidFill>
                <a:latin typeface="Times New Roman"/>
              </a:rPr>
              <a:t>Conclusion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804000" y="1773360"/>
            <a:ext cx="2089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EBE8E-CF36-449D-A963-F07F52D9A049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ackgroun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Jacques de Larosière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mid-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Report delivered Feb-09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EBF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xpert group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Set up in November 2008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Comments &amp; proposals to de Larosière group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is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mmunication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on </a:t>
            </a:r>
            <a:r>
              <a:rPr b="0" i="1" lang="en-US" sz="2100" spc="-1" strike="noStrike">
                <a:solidFill>
                  <a:srgbClr val="0066cc"/>
                </a:solidFill>
                <a:latin typeface="Times New Roman"/>
              </a:rPr>
              <a:t>European Financial Supervision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Published on 27-May-09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legislative proposals follow in autumn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536D-2F1D-48B6-A8E8-2C9E5EEBE3C5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RC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 (ESFS)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ESRC-ESFS </a:t>
            </a: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ooperation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1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35C7-9D76-42C5-A368-38097DC2EDD8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ole</a:t>
            </a:r>
            <a:r>
              <a:rPr b="0" lang="en-GB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ESRC 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role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is to: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provide early warnings of financial vulnerabilities, and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make recommendations on issues pertaining to macro-financial stability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t will fulfil its role by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ecting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Assessing this information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Issuing risk warning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Collaborating with IMF, FSB and third countries’ peers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1279-E1D2-4597-A036-68779D8F904F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Composition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ECB President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Vice-Chai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non-euro-zone governor elected by ESRC memb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Memb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vice-president of the ECB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National central banks: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3 Chairs of European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European Commission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Observers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27 national supervisory authoriti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Finance Ministries: Chair of the EFC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 u="sng">
                <a:solidFill>
                  <a:srgbClr val="0066cc"/>
                </a:solidFill>
                <a:uFillTx/>
                <a:latin typeface="Times New Roman"/>
              </a:rPr>
              <a:t>Total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34 members + 28 observers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6D6D-2BB3-4FE6-8BEC-07D0EAD5B33B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ic Risk Council: Function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t least three meetings per year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, which all members and observers are entitled to attend and speak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Decision making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only members may vote on the basis of a simple majority procedure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Accountable 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to Council and European Parliament;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Role of the ECB</a:t>
            </a:r>
            <a:r>
              <a:rPr b="0" lang="en-GB" sz="2100" spc="-1" strike="noStrike">
                <a:solidFill>
                  <a:srgbClr val="0066cc"/>
                </a:solidFill>
                <a:latin typeface="Times New Roman"/>
              </a:rPr>
              <a:t>: the ECB provides administrative and logistic support as well as technical expertise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63A84-A4AF-4BAF-8C88-B3D11DB7E8C1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ommunication’s proposal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uropean Systemic Risk Council (ESRC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(ESFS)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8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808080"/>
                </a:solidFill>
                <a:latin typeface="Times New Roman"/>
              </a:rPr>
              <a:t>ESRC-ESFS Cooperation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4"/>
          <p:cNvSpPr/>
          <p:nvPr/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A3BB4-9E44-4B16-B410-E3C560316BD7}" type="slidenum">
              <a:rPr b="0" lang="en-GB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340000" y="260280"/>
            <a:ext cx="66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System of 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Supervisor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0066cc"/>
                </a:solidFill>
                <a:latin typeface="Times New Roman"/>
              </a:rPr>
              <a:t>Two levels: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National level: 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national supervisors and colleges; 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cc"/>
                </a:solidFill>
                <a:latin typeface="Times New Roman"/>
              </a:rPr>
              <a:t>European level</a:t>
            </a:r>
            <a:r>
              <a:rPr b="0" lang="en-US" sz="2000" spc="-1" strike="noStrike">
                <a:solidFill>
                  <a:srgbClr val="0066cc"/>
                </a:solidFill>
                <a:latin typeface="Times New Roman"/>
              </a:rPr>
              <a:t>: new Supervisory Authorities </a:t>
            </a:r>
            <a:r>
              <a:rPr b="0" lang="en-GB" sz="2000" spc="-1" strike="noStrike">
                <a:solidFill>
                  <a:srgbClr val="0066cc"/>
                </a:solidFill>
                <a:latin typeface="Times New Roman"/>
              </a:rPr>
              <a:t>(banking, insurance and securities).</a:t>
            </a:r>
            <a:endParaRPr b="0" lang="en-US" sz="20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National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remain responsible for direct day-to-day supervision of individual entities. 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Colleges of supervisors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 for cross-border groups supervision: national supervisors +</a:t>
            </a:r>
            <a:r>
              <a:rPr b="1" lang="en-US" sz="21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US" sz="2100" spc="-1" strike="noStrike">
                <a:solidFill>
                  <a:srgbClr val="0066cc"/>
                </a:solidFill>
                <a:latin typeface="Times New Roman"/>
              </a:rPr>
              <a:t>a representative of the relevant European Supervisory Authority as observers.</a:t>
            </a: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3:53:41Z</dcterms:created>
  <dc:creator>proskurovska</dc:creator>
  <dc:description/>
  <dc:language>en-US</dc:language>
  <cp:lastModifiedBy> </cp:lastModifiedBy>
  <dcterms:modified xsi:type="dcterms:W3CDTF">2009-06-22T10:13:09Z</dcterms:modified>
  <cp:revision>218</cp:revision>
  <dc:subject/>
  <dc:title>Economic and Banking Sector Situation in the Eastern European Countries</dc:title>
</cp:coreProperties>
</file>